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98C-CB8D-4901-91C0-ACB4A6FA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A93-B25F-4D1C-BFB3-5B0B2A8C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167-BE4C-4984-8861-6B964E1C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F0A-E6D3-4D09-A972-15AFE36E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5F49-FD3D-4B3F-95AD-FFAB59D2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3EB3-5FF8-4F75-A04C-035DB293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7F8-EF70-422D-86B7-995F67F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4AA-1CC7-4838-A3D6-198A4852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B1D-D7B8-49C1-937D-966A1A7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8722-47A0-4E5C-B886-FF7D4903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3B9-78B5-425D-8E97-426D502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800-8AD8-400E-A970-F21F581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EC59-92C8-4F77-89C5-4715B7D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65CA-1780-4176-B14C-83C511C2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4A6-CAFB-4DF2-B98E-E63F7FFA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6F05-15B0-48AD-AF60-560A4027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0BCB-D306-4945-8E56-6F169B4B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DD59-758D-4C90-B575-071BBAD6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7B77-317E-46AD-A5E7-2DDC772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D910-0112-4AAC-92BB-E3AAB4D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D82F-7EA6-4854-A3E9-0ECEF510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BE9C-BEED-4F29-88A9-C08AF63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D21-5F44-4FB0-B5BC-D25B441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E845-E82B-4746-B0D6-FDED8AD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B448-C7AE-4BF2-8DCB-1813209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0D35-EDA6-447C-9FA4-6C0B55C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86C3-6620-4922-A4EF-A827802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74C4-C0A9-4E7A-8FA0-344F213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E38D-96C5-469E-94A3-64AC6CE6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061A-097C-48B4-94EA-A95463FD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E2ED-1EFA-4DBE-B68D-B3738F02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14E7-3F81-4AFC-96D8-0D58FA0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92FE-68A1-4A65-9210-CACCB5D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158-D8CE-4FC8-B29A-BFDC915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B20D-D3C9-49AF-B10A-A159944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4B1F-E74A-4AD3-B120-4D3C84E1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6147-69EB-4F93-8808-D0453F56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5E2C-56FB-44B7-A743-2E2CD85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FAFB-FB20-402A-A6C7-B8E2F16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619E-0C60-4669-B228-F15B0C3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B45E-1A34-49B8-B095-6263BF28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A771-D910-4C4F-A269-74B7292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7E6E-19A2-4247-AFBA-6DD532DD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BB55-BB0B-46A7-8EE5-1F12FA24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140-90DF-42FA-A4F8-A32F8335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81303-D1A6-4A02-8551-1AAC2F1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A9C87-BD5C-460B-A1B1-825E0C6B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548A-ADB4-4361-A444-C127A7D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0F83-B33B-4E26-8C6B-EA5EEC9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D8CC-59FD-405B-98CA-A61FAB3C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1A06-BDFC-4BD5-94EE-C776F47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413A-3C41-41D6-B6A9-4E2AEF1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FB67-92F1-4E7C-B764-9995A54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74A6-9D48-439B-9856-80CA156B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DBDA-2F89-4EC3-B9C5-3C9983B8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421-FE32-46BC-85FE-D1397664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809F-5A74-417C-983B-808172B1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AD40-0624-47F9-A7D0-DE88B52F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E8F0-595A-49B0-A460-04CFFDF9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4AB52-1061-4194-9DA2-B9E0986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595AB-851C-450B-944A-E0521E4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0302-DAD2-4FFB-8F0D-CFADF4C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A690-8F15-4860-A1A3-C94B69F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4E53-C480-4DE0-922B-76DD7F9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E60F4-4424-40DA-94E3-1054712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65354-015A-44DE-8DA0-494D13A4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07F-3BCE-4C6C-ADFD-3C29F4B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4854-8E3D-422F-9481-C381342F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9E8B-EC17-49CA-80B9-D6FCE8E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67E0-59E8-4FE3-97CD-A6E78816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A632-9470-48B9-808A-0D2A2D7C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5ED7B-C7A7-478E-B929-53BC337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8BACA-FA47-43BD-BF96-DBFB17D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B52A-6DB7-4B53-A572-190A642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A3EA-1CA6-4192-9B31-57DC9276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F7988-8599-4BC3-93F5-FA11237D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6395-75EA-4644-B9A7-D85E36F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6D3-3D0A-4A1A-AF47-A0612DAB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AAF71-E43F-4792-B088-B2F233C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8309-1B53-46CB-9775-0D93C316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3E4FF-8C66-4113-9CE0-0C17C63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FCE0-FB9D-44CA-88B3-E1DA4213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844B-7F6E-43FC-AF9D-F201FA90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312-5C9F-4861-8DB8-0D2E1DC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7BC9-AD6A-4DC9-A335-BA5CFED2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3555-41C0-44B9-A3D5-09E551B82D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51CC-5DF9-406A-AC33-3F983253D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0D8-66BE-4801-BBEA-557D90F8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273B-2CF8-4600-8C40-3A417290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F3E-C6C1-44B2-921F-B99B24455E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1E6B-B8EE-4801-BE74-235795C7961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modo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gitalfamilysummit.com/2012/safety-protecting-your-digital-footprint" TargetMode="External"/><Relationship Id="rId2" Type="http://schemas.openxmlformats.org/officeDocument/2006/relationships/hyperlink" Target="http://www.digitalfamilysummit.com/2012/safety-protecting-your-digital-footprint" TargetMode="External"/><Relationship Id="rId3" Type="http://schemas.openxmlformats.org/officeDocument/2006/relationships/hyperlink" Target="http://www.educationnation.com/index.cfm?objectid=5DE1F0EE-21AE-11E1-A9BF000C296BA163&amp;aka=0" TargetMode="External"/><Relationship Id="rId4" Type="http://schemas.openxmlformats.org/officeDocument/2006/relationships/hyperlink" Target="http://www.educationnation.com/index.cfm?objectid=D25A95BE-6152-11E1-8D32000C296BA163" TargetMode="External"/><Relationship Id="rId5" Type="http://schemas.openxmlformats.org/officeDocument/2006/relationships/hyperlink" Target="http://www.huffingtonpost.com/2011/12/08/social-media-in-classroom_n_1137359.html" TargetMode="External"/><Relationship Id="rId6" Type="http://schemas.openxmlformats.org/officeDocument/2006/relationships/hyperlink" Target="http://www.iste.org/Libraries/PDFs/NETS-T_Standards.sflb.ashx" TargetMode="External"/><Relationship Id="rId7" Type="http://schemas.openxmlformats.org/officeDocument/2006/relationships/hyperlink" Target="http://www.cde.state.co.us/scripts/allstandards/COStandards.asp" TargetMode="External"/><Relationship Id="rId8" Type="http://schemas.openxmlformats.org/officeDocument/2006/relationships/hyperlink" Target="http://shinydoor.com/taxonomy/term/270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dmodo.com/join/21be0580c74f2f7eb3a66f367f98e3a2" TargetMode="External"/><Relationship Id="rId2" Type="http://schemas.openxmlformats.org/officeDocument/2006/relationships/hyperlink" Target="http://www.edutopia.org/" TargetMode="External"/><Relationship Id="rId3" Type="http://schemas.openxmlformats.org/officeDocument/2006/relationships/hyperlink" Target="http://www.enetcolorado.org/" TargetMode="External"/><Relationship Id="rId4" Type="http://schemas.openxmlformats.org/officeDocument/2006/relationships/hyperlink" Target="http://kidblog.org/MrsGlynnsClass/" TargetMode="External"/><Relationship Id="rId5" Type="http://schemas.openxmlformats.org/officeDocument/2006/relationships/hyperlink" Target="http://blog.discoveryeducation.com/scwentworth/" TargetMode="External"/><Relationship Id="rId6" Type="http://schemas.openxmlformats.org/officeDocument/2006/relationships/hyperlink" Target="http://www.classtools.net/fb/home/page" TargetMode="External"/><Relationship Id="rId7" Type="http://schemas.openxmlformats.org/officeDocument/2006/relationships/hyperlink" Target="http://www.drive.google.com/" TargetMode="External"/><Relationship Id="rId8" Type="http://schemas.openxmlformats.org/officeDocument/2006/relationships/hyperlink" Target="http://www.discoveryeducation.com/" TargetMode="External"/><Relationship Id="rId9" Type="http://schemas.openxmlformats.org/officeDocument/2006/relationships/hyperlink" Target="http://www.piclits.com/" TargetMode="External"/><Relationship Id="rId10" Type="http://schemas.openxmlformats.org/officeDocument/2006/relationships/hyperlink" Target="http://bit.ly/KY57dL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unity.prometheanplanet.com/en/user_groups/aurorak12/default.aspx" TargetMode="External"/><Relationship Id="rId2" Type="http://schemas.openxmlformats.org/officeDocument/2006/relationships/hyperlink" Target="http://www.teachingdegree.org/2009/06/30/50-awesome-ways-to-use-skype-in-the-classroom/" TargetMode="External"/><Relationship Id="rId3" Type="http://schemas.openxmlformats.org/officeDocument/2006/relationships/hyperlink" Target="http://www.skype.com/" TargetMode="External"/><Relationship Id="rId4" Type="http://schemas.openxmlformats.org/officeDocument/2006/relationships/hyperlink" Target="http://www.thinkfinity.org/" TargetMode="External"/><Relationship Id="rId5" Type="http://schemas.openxmlformats.org/officeDocument/2006/relationships/hyperlink" Target="http://www.twitter.com/" TargetMode="External"/><Relationship Id="rId6" Type="http://schemas.openxmlformats.org/officeDocument/2006/relationships/hyperlink" Target="https://aea-tic.wikispaces.com/home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523880" y="380880"/>
          <a:ext cx="6096240" cy="517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al Media in the Classroom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Box 6"/>
          <p:cNvSpPr/>
          <p:nvPr/>
        </p:nvSpPr>
        <p:spPr>
          <a:xfrm>
            <a:off x="934200" y="1600200"/>
            <a:ext cx="763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have brought a computer or digital device with you, please joi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MODO group to interact with this presen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www.edmodo.com/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f you don’t have an account, Click on 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’m A Teacher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follow the directions t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eate a free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the Left bar, click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 JO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 the Code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l4rz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lease introduce yourself and respond to the poll 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https://encrypted-tbn2.google.com/images?q=tbn:ANd9GcTuo8YBT9p_Rh7dWqzxw-vCZdFkP-CQv8Fp5C4-YBpKchadPG8s"/>
          <p:cNvPicPr/>
          <p:nvPr/>
        </p:nvPicPr>
        <p:blipFill>
          <a:blip r:embed="rId1"/>
          <a:stretch/>
        </p:blipFill>
        <p:spPr>
          <a:xfrm>
            <a:off x="1143000" y="1066680"/>
            <a:ext cx="6553080" cy="504360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1321920" y="38088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ocial Media in the Classro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762120" y="624852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https://encrypted-tbn2.google.com/images?q=tbn:ANd9GcTuo8YBT9p_Rh7dWqzxw-vCZdFkP-CQv8Fp5C4-YBpKchadPG8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459720" y="304920"/>
            <a:ext cx="18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878040" y="1219320"/>
          <a:ext cx="6858000" cy="5173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hlinkClick r:id="rId1"/>
                        </a:rPr>
                        <a:t>http://</a:t>
                      </a:r>
                      <a:r>
                        <a:rPr b="0" lang="en-US" sz="1400" spc="-1" strike="noStrike" u="sng">
                          <a:solidFill>
                            <a:srgbClr val="17bbfd"/>
                          </a:solidFill>
                          <a:uFillTx/>
                          <a:latin typeface="Century Gothic"/>
                          <a:hlinkClick r:id="rId2"/>
                        </a:rPr>
                        <a:t>www.digitalfamilysummit.com/2012/safety-protecting-your-digital-footpri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TextBox 3"/>
          <p:cNvSpPr/>
          <p:nvPr/>
        </p:nvSpPr>
        <p:spPr>
          <a:xfrm>
            <a:off x="913320" y="2057400"/>
            <a:ext cx="78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educationnation.com/index.cfm?objectid=5DE1F0EE-21AE-11E1-A9BF000C296BA163&amp;aka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913320" y="2666880"/>
            <a:ext cx="72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www.educationnation.com/index.cfm?objectid=D25A95BE-6152-11E1-8D32000C296BA16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669960" y="838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gital Foot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6"/>
          <p:cNvSpPr/>
          <p:nvPr/>
        </p:nvSpPr>
        <p:spPr>
          <a:xfrm>
            <a:off x="704880" y="17496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cial Media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7"/>
          <p:cNvSpPr/>
          <p:nvPr/>
        </p:nvSpPr>
        <p:spPr>
          <a:xfrm>
            <a:off x="683280" y="2362320"/>
            <a:ext cx="48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 Reasons for using Social Media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684720" y="2971800"/>
            <a:ext cx="52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cial Media in Classrooms: A Case For Why It Belo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903960" y="3276720"/>
            <a:ext cx="668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www.huffingtonpost.com/2011/12/08/social-media-in-classroom_n_1137359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10"/>
          <p:cNvSpPr/>
          <p:nvPr/>
        </p:nvSpPr>
        <p:spPr>
          <a:xfrm>
            <a:off x="696960" y="426708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Ts for Teachers-ISTE (International Society  for Technology in Educ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1"/>
          <p:cNvSpPr/>
          <p:nvPr/>
        </p:nvSpPr>
        <p:spPr>
          <a:xfrm>
            <a:off x="888120" y="4572000"/>
            <a:ext cx="481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://www.iste.org/Libraries/PDFs/NETS-T_Standards.sflb.ash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677160" y="48769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lorado Academic Standards-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3"/>
          <p:cNvSpPr/>
          <p:nvPr/>
        </p:nvSpPr>
        <p:spPr>
          <a:xfrm>
            <a:off x="885600" y="5181480"/>
            <a:ext cx="49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7"/>
              </a:rPr>
              <a:t>http://www.cde.state.co.us/scripts/allstandards/COStandards.a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669960" y="3581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sitive Digital Foot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893160" y="3886200"/>
            <a:ext cx="33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8"/>
              </a:rPr>
              <a:t>http://shinydoor.com/taxonomy/term/270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383040" y="304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bsites and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517680" y="43434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ake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525240" y="15238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cover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564840" y="2805120"/>
            <a:ext cx="21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modo-Cod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5l4rz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521640" y="685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529560" y="510552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ogle Apps/Docs/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521640" y="35701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utop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524520" y="2133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et Col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94680" y="3186000"/>
            <a:ext cx="47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edmodo.com/join/21be0580c74f2f7eb3a66f367f98e3a2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1070280" y="395136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http://www.edutopia.org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915120" y="242424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enetcolorado.org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18"/>
          <p:cNvSpPr/>
          <p:nvPr/>
        </p:nvSpPr>
        <p:spPr>
          <a:xfrm>
            <a:off x="923040" y="990720"/>
            <a:ext cx="38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kidblog.org/MrsGlynnsClass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blog.discoveryeducation.com/scwentworth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19"/>
          <p:cNvSpPr/>
          <p:nvPr/>
        </p:nvSpPr>
        <p:spPr>
          <a:xfrm>
            <a:off x="1071000" y="47242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://www.classtools.net/fb/home/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1066680" y="54831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7"/>
              </a:rPr>
              <a:t>http://www.drive.google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21"/>
          <p:cNvSpPr/>
          <p:nvPr/>
        </p:nvSpPr>
        <p:spPr>
          <a:xfrm>
            <a:off x="992160" y="1825560"/>
            <a:ext cx="296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8"/>
              </a:rPr>
              <a:t>http://www.discoveryeducation.com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538920" y="5791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17"/>
          <p:cNvSpPr/>
          <p:nvPr/>
        </p:nvSpPr>
        <p:spPr>
          <a:xfrm>
            <a:off x="1071000" y="6095880"/>
            <a:ext cx="191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9"/>
              </a:rPr>
              <a:t>http://www.piclits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0"/>
              </a:rPr>
              <a:t>http://bit.ly/KY57dL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611640" y="33526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w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616680" y="44956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kisp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613800" y="1523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609480" y="25146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nk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618480" y="76212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methean Pla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1051920" y="114300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http://community.prometheanplanet.com/en/user_groups/aurorak12/default.aspx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1164960" y="1828800"/>
            <a:ext cx="721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http://www.teachingdegree.org/2009/06/30/50-awesome-ways-to-use-skype-in-the-classroom/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http://www.skype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1121760" y="289548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http://www.thinkfinity.org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1137960" y="3681360"/>
            <a:ext cx="198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5"/>
              </a:rPr>
              <a:t>http://www.twitter.com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@apstechgodd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@gimmy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1230120" y="4876920"/>
            <a:ext cx="28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alibri"/>
                <a:hlinkClick r:id="rId6"/>
              </a:rPr>
              <a:t>https://aea-tic.wikispaces.com/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gwynn.wikispaces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ixth.wikispaces.com/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1"/>
          <p:cNvSpPr/>
          <p:nvPr/>
        </p:nvSpPr>
        <p:spPr>
          <a:xfrm>
            <a:off x="683280" y="571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tu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1229400" y="60199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youtube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685800" y="1752480"/>
          <a:ext cx="4038480" cy="17370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wynn Mo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ctional Media/Technology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is Elemen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rora Public Scho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ttp://gwynn.wikispaces.co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514600" y="3886200"/>
          <a:ext cx="6248520" cy="201132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hannon Wentwor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structional Media/Technology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xth Avenue Elementar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rora Public Scho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ttp://blog.discoveryeducation.com/scwentworth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8"/>
          <p:cNvGrpSpPr/>
          <p:nvPr/>
        </p:nvGrpSpPr>
        <p:grpSpPr>
          <a:xfrm>
            <a:off x="152280" y="120600"/>
            <a:ext cx="8915400" cy="6661080"/>
            <a:chOff x="152280" y="120600"/>
            <a:chExt cx="8915400" cy="6661080"/>
          </a:xfrm>
        </p:grpSpPr>
        <p:pic>
          <p:nvPicPr>
            <p:cNvPr id="305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52280"/>
              <a:ext cx="891540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Oval 2"/>
            <p:cNvSpPr/>
            <p:nvPr/>
          </p:nvSpPr>
          <p:spPr>
            <a:xfrm>
              <a:off x="598320" y="3098520"/>
              <a:ext cx="200484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3"/>
            <p:cNvSpPr/>
            <p:nvPr/>
          </p:nvSpPr>
          <p:spPr>
            <a:xfrm>
              <a:off x="5946840" y="4498920"/>
              <a:ext cx="230328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4"/>
            <p:cNvSpPr/>
            <p:nvPr/>
          </p:nvSpPr>
          <p:spPr>
            <a:xfrm>
              <a:off x="3867120" y="152280"/>
              <a:ext cx="178272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2306520" y="372600"/>
              <a:ext cx="1635120" cy="1325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 rot="914400">
              <a:off x="664920" y="2046240"/>
              <a:ext cx="2016000" cy="957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"/>
            <p:cNvSpPr/>
            <p:nvPr/>
          </p:nvSpPr>
          <p:spPr>
            <a:xfrm rot="19152600">
              <a:off x="5130360" y="592920"/>
              <a:ext cx="1857240" cy="1104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1447920" y="304920"/>
          <a:ext cx="3733560" cy="63972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gital Footpri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133720" cy="24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6629400" y="2743200"/>
          <a:ext cx="2209680" cy="457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ttp://www.digitalfamilysummit.com/wp-content/uploads/2012/05/Digital-Footprint.png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80880" y="1447920"/>
          <a:ext cx="3581640" cy="51732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 Socially Sm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838080" y="2286000"/>
          <a:ext cx="5410440" cy="822240"/>
        </p:xfrm>
        <a:graphic>
          <a:graphicData uri="http://schemas.openxmlformats.org/drawingml/2006/table">
            <a:tbl>
              <a:tblPr/>
              <a:tblGrid>
                <a:gridCol w="5410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verything you put online---STAYS onl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5-Point Star 6"/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38080" y="3276720"/>
          <a:ext cx="6096240" cy="8222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hink before you post-All posts are publ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38080" y="4191120"/>
          <a:ext cx="8077320" cy="457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sider the appropriateness of all material pos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371600" y="4724280"/>
          <a:ext cx="6781680" cy="82260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s this the image you want to present to the publi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914400" y="5715000"/>
          <a:ext cx="3657600" cy="4572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gital Citizensh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5-Point Star 11"/>
          <p:cNvSpPr/>
          <p:nvPr/>
        </p:nvSpPr>
        <p:spPr>
          <a:xfrm>
            <a:off x="304920" y="33526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5-Point Star 12"/>
          <p:cNvSpPr/>
          <p:nvPr/>
        </p:nvSpPr>
        <p:spPr>
          <a:xfrm>
            <a:off x="304920" y="4267080"/>
            <a:ext cx="457200" cy="38124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5-Point Star 13"/>
          <p:cNvSpPr/>
          <p:nvPr/>
        </p:nvSpPr>
        <p:spPr>
          <a:xfrm>
            <a:off x="304920" y="57913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85800" y="320760"/>
            <a:ext cx="777240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76320" y="666720"/>
            <a:ext cx="8001000" cy="781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5440" cy="4724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4724280" y="4419720"/>
            <a:ext cx="4191120" cy="45720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47600" y="1324080"/>
            <a:ext cx="8847000" cy="5076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686800" cy="8384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4724280" y="4038480"/>
            <a:ext cx="4114800" cy="45720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32880" cy="489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228600" y="409680"/>
            <a:ext cx="8151840" cy="88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4724280" y="4267080"/>
            <a:ext cx="3962520" cy="762120"/>
          </a:xfrm>
          <a:prstGeom prst="rect">
            <a:avLst/>
          </a:prstGeom>
          <a:noFill/>
          <a:ln w="57240">
            <a:solidFill>
              <a:srgbClr val="e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336" name="Oval 2"/>
          <p:cNvSpPr/>
          <p:nvPr/>
        </p:nvSpPr>
        <p:spPr>
          <a:xfrm>
            <a:off x="914400" y="335268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6095880" y="342900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4"/>
          <p:cNvSpPr/>
          <p:nvPr/>
        </p:nvSpPr>
        <p:spPr>
          <a:xfrm rot="19658400">
            <a:off x="2209680" y="506520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 rot="16561800">
            <a:off x="3560760" y="5125680"/>
            <a:ext cx="190476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 rot="19998000">
            <a:off x="5638680" y="137124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 rot="1099800">
            <a:off x="837720" y="220932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 rot="2343000">
            <a:off x="2290320" y="574560"/>
            <a:ext cx="19051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2:12:42Z</dcterms:created>
  <dc:creator>Gwynn</dc:creator>
  <dc:description/>
  <dc:language>en-US</dc:language>
  <cp:lastModifiedBy>Gwynn</cp:lastModifiedBy>
  <dcterms:modified xsi:type="dcterms:W3CDTF">2012-06-10T20:32:22Z</dcterms:modified>
  <cp:revision>48</cp:revision>
  <dc:subject/>
  <dc:title>Slide 1</dc:title>
</cp:coreProperties>
</file>